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1024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04C-D777-48B7-9609-E23F99F2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73C-7D6C-4292-9AA5-2A2FF462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B82-D2B2-4E21-AF6F-73B20477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DFF-B059-4B73-BE1A-4A2C5FA0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6C0E-3734-4A9E-83F4-76A6C366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6A93-0F40-4332-88EE-1974E0B6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968F-980B-47D2-8B59-B407EF9F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C7A2-232C-436C-911A-1FF54C72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AB66-E922-4014-96AB-5449B9F6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7A1F-5FB6-49BD-A1C8-F943B2BF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23A8-9FA9-4AAC-B868-89E7295F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8FB-4D70-4AC2-B83C-2CB9918D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44A6-30CF-435D-8B68-16A4F54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0989-F4CC-4644-8136-4816BB62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73EC-27E2-44CE-A955-8CC5CACF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0862-3A7B-4E8C-B38D-E6642981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FDCC-FE68-40C9-B8D1-4B9DF76B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9346-CFCC-47E0-A8DD-2FACB7AC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DC43-E5CF-466A-B33B-E4C526F7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7B15-6850-499E-8361-B79A649A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EF54-725A-4EC2-B0CE-F785489C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0A64-86DD-4F1E-9190-B44282DE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75D-354C-45A1-8AD3-C6029957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4CA8-702C-4D72-B511-DA047BE5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462B-822F-4A67-A6DD-75133C88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A38F9-421C-432A-85B1-F49A825A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DC32-A4BC-4B46-A3EB-51C1ACBF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BD34-64F1-4836-836F-F8B8CE69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2158-0CDC-4A10-AE2A-0A610F7C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3C368-D5A1-4940-93FD-8A06BF66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3381C-F317-4F85-995F-C4968CBB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05AB1-EFF2-4165-9252-E70E2411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3138-8F4C-4AD0-B16F-B7D0BA2F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25B-E211-4D34-8D37-36220AB7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85BAD-FED7-4C58-9711-023125B1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A8CBF-7C88-4898-AE0C-CAB19283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9FB3E-0B19-4E30-BF67-7E6DC319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21F4-67E3-4995-8AB4-81A62D83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02928-825E-4D68-BDC7-639B4B7C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DE684-2973-49E5-A7FC-5EFEFD36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553A3-0E24-4A4D-B0E5-F530C158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43ECB-6835-4405-A379-C028059D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4A7C4-C32D-4733-AD0E-731B9721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213-8FDE-4271-94FA-96555604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767-05E6-409D-90C9-1171A18E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94C-E386-4D9B-A4B9-DE4C727D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D71-1494-40F9-B087-389EB59B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BB6-8A94-4D92-8D6D-DE6CEB7D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219A-ACBA-45CB-A03D-AC6BC71B9A2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8750-6259-48EA-AB3F-7C4C97E4D3A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6F4A-0134-4149-8D62-59D88A0367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3933-4D85-4A4A-AEE1-819098FFAC8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35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Poverty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y Vocabul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50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solute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lative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ndard of liv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ying po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onomic secu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posable inc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povert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n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anada does not have a standard definition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bsolute Pover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Lacking the amount of money needed to meet basic needs such as food, clothing, and shelter. (Absolute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lative Pover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eople are poor if they fall below prevailing standards of living in a given societal context. (Relative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ver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acking the amount of money necessary to meet basic needs such as food, clothing, and shelter. (Absolute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eople are poor if they fall below prevailing standards of living in a given societal context. (Relative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y Vocabul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500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solute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lative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ndard of liv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ying pow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verty 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onomic secu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320840" indent="-40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posable inc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23:30:56Z</dcterms:created>
  <dc:creator>ladmin</dc:creator>
  <dc:description/>
  <dc:language>en-US</dc:language>
  <cp:lastModifiedBy>Terry, Sean J. (ASD-E)</cp:lastModifiedBy>
  <cp:lastPrinted>2014-03-17T00:38:21Z</cp:lastPrinted>
  <dcterms:modified xsi:type="dcterms:W3CDTF">2015-10-26T03:20:56Z</dcterms:modified>
  <cp:revision>16</cp:revision>
  <dc:subject/>
  <dc:title>PowerPoint Presentation</dc:title>
</cp:coreProperties>
</file>